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E6843-2D69-46E8-80F8-E8BA5B6974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6A5ED-BACD-4F5E-AE52-C7F07F7B60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16516-EF03-4D0D-A6A5-B3290AFE5D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B0304-1FA2-44D0-B401-89E6CC26EFFE}" type="datetime3">
              <a:rPr b="0" lang="en-US" sz="1200" spc="-1" strike="noStrike">
                <a:solidFill>
                  <a:srgbClr val="000000"/>
                </a:solidFill>
                <a:latin typeface="Arial"/>
              </a:rPr>
              <a:t>July 31,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0D42B-95C6-4DEB-9435-9F7B80A052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0EE24-B279-45ED-ABCF-B727F36442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7ADBC-BBB6-407F-8F41-BEAD2BEB0E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104F72-F0D7-416C-A0BA-675AB4C75B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9A767-5F3E-4FCD-B658-6EE207D0C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A5A09C-E28A-49CE-947C-008DF5614E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74398-87BD-4CD8-B190-71C96E6E38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801C9B-DD71-412E-B682-AD592DAD1D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84BA08-1F41-44F8-81AB-D4B188E1D0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5600BF-3489-41D3-8306-4773829DE3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70C087-8028-40CC-98DC-94917D2072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207E35-E5BC-42B7-9346-2DD42898FF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EA481A-A63F-4937-9C53-AC957718B0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D91EE-3399-4A5A-B75B-1DB66F3C2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B3F1C-4CE5-4083-888B-84A3282CB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FF084-2E91-499C-92E5-81CB1491A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D900B-880C-49C0-86E2-880FDB6C4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077CCF-E982-463D-B22C-93202B51A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B53C9E-2F9F-4791-B964-2B309FA187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BFAF7B-4937-4B81-A8A7-A6E4077034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93C11-2672-4336-B405-EBA8BEFE1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6C70A-8AA0-46B7-A96B-6C4868FF2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335A1-F592-4543-82E4-05A301109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BD44D-F383-4523-81E9-CD615EF5F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A2E58-DBFA-40EF-A6A0-F5547C7A4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19185-7BB6-4762-9BB9-F09B407AE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4B10A-A97D-46AE-A6A1-FE354512EA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AEB9D-D5BC-470D-A08E-6504155F4B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32984D5-AC28-4CD6-9957-0379CE43621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43BA2BB-D089-412D-93C6-E06152B6094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71878-CA14-4AEF-917B-AE8B430121BC}"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369DE-884A-44C1-9151-19398831A8B9}"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